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CFE-FACD-440C-B30D-24B4D58C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61B-75F7-4F70-961E-38687EC9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E56-C495-416D-8A69-282DD085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347-CAED-4AC6-8BA6-7C6C7181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F6D-96F0-4A02-B45A-FD1BA943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451-790E-4EF9-848A-0CB618B5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B1D-BD8D-403D-BBE7-BC96F36E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55B-A974-41B3-89DA-CE17BA96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042-8993-4C82-918E-5A776B3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E20-B1D4-47BB-AA5A-90779B2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965-B75A-4F40-9ADB-0642469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559-4CFC-442F-9427-8BF2AF87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BBA9-4C8C-4801-98C8-822873FC1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6:15:14Z</dcterms:created>
  <dc:creator>Grupo Editorial</dc:creator>
  <dc:description/>
  <dc:language>en-US</dc:language>
  <cp:lastModifiedBy>Grupo Editorial</cp:lastModifiedBy>
  <dcterms:modified xsi:type="dcterms:W3CDTF">2001-11-21T16:28:54Z</dcterms:modified>
  <cp:revision>1</cp:revision>
  <dc:subject/>
  <dc:title>Sin título de diapositiva</dc:title>
</cp:coreProperties>
</file>